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578-B1D4-4B32-AE02-76F9C099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AA6-C93E-46E5-A0E4-4A126CE6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EC3-A1FD-466F-862F-3EE7EC6F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7FC-3D60-48AB-BFA0-9DD78934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824-6503-4B1E-A951-EA095E6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BFF-DEB1-4A58-AEB9-9E62B41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DFA-937E-431A-9D3F-7541606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23C-43B5-4B2B-93EA-0AE62912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7B9-7BC9-4A1D-B823-6C6B1713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13E-669A-4A7C-9B80-6CFA230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3D7-8818-4FA9-B5D1-7BB676C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68B-BCB0-4F68-BDE9-48D42DA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332B-ED3A-4FF1-ACCD-51BCE394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brain+parts&amp;um=1&amp;hl=en&amp;safe=active&amp;sa=N&amp;rlz=1T4ADRA_enUS484US485&amp;biw=771&amp;bih=399&amp;tbm=isch&amp;tbnid=uIlkxqbuXBQntM:&amp;imgrefurl=http://www.uic.edu/classes/bios/bios100/lecturesf04am/lect22.htm&amp;docid=s8n9KJl8qjp8pM&amp;imgurl=http://www.uic.edu/classes/bios/bios100/lecturesf04am/brain_3.gif&amp;w=507&amp;h=307&amp;ei=PmWRUP7gL-veigKf1IHQAg&amp;zoom=1&amp;iact=hc&amp;vpx=178&amp;vpy=69&amp;dur=2938&amp;hovh=175&amp;hovw=289&amp;tx=186&amp;ty=112&amp;sig=102988451964318224399&amp;page=1&amp;tbnh=73&amp;tbnw=120&amp;start=0&amp;ndsp=10&amp;ved=1t:429,r:6,s:0,i:91&amp;surl=1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each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Nervous System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s within the body and in the outsid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ensory information, stores some of it, and make decisions regarding appropriate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esp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imuli by initiating action in the form of muscular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– specialized for nerve impulse con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up of cell body, dendrites, and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1722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 and mediate to the rest of your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it is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ing membrane pot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dium is out of the cell and potassium is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timulus hits the neuron, it goes through a nerve impulse (nerve action potent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pid change in membrane potential that involves depolarization and re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ulse self propa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ropagation of Nerve Impluse - Saltatory Conduction"/>
          <p:cNvPicPr/>
          <p:nvPr/>
        </p:nvPicPr>
        <p:blipFill>
          <a:blip r:embed="rId1"/>
          <a:stretch/>
        </p:blipFill>
        <p:spPr>
          <a:xfrm>
            <a:off x="1447920" y="533520"/>
            <a:ext cx="5810040" cy="60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when you get to the end of a neu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152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858000" cy="382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665680"/>
            <a:ext cx="7772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ulses are conducted across a synapse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te where two neurons or a neuron and an effector cell can commun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oogle Image Result for http://www.uic.edu/classes/bios/bios100/lecturesf04am/brain_3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abused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nts – increase alertness and phys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amount of dopamine (neurotransmitter) released into a 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adenosine recep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2895480"/>
            <a:ext cx="1314720" cy="9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7:50:10Z</dcterms:created>
  <dc:creator>jhiraoka</dc:creator>
  <dc:description/>
  <dc:language>en-US</dc:language>
  <cp:lastModifiedBy>jhiraoka</cp:lastModifiedBy>
  <dcterms:modified xsi:type="dcterms:W3CDTF">2012-10-31T17:59:41Z</dcterms:modified>
  <cp:revision>2</cp:revision>
  <dc:subject/>
  <dc:title>Nervous system</dc:title>
</cp:coreProperties>
</file>